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20.jpeg" ContentType="image/jpeg"/>
  <Override PartName="/ppt/media/image23.jpeg" ContentType="image/jpeg"/>
  <Override PartName="/ppt/media/image21.jpeg" ContentType="image/jpeg"/>
  <Override PartName="/ppt/media/chimes.wav" ContentType="audio/x-wav"/>
  <Override PartName="/ppt/media/image36.gif" ContentType="image/gif"/>
  <Override PartName="/ppt/media/image17.jpeg" ContentType="image/jpeg"/>
  <Override PartName="/ppt/media/image12.gif" ContentType="image/gif"/>
  <Override PartName="/ppt/media/image16.png" ContentType="image/png"/>
  <Override PartName="/ppt/media/image15.jpeg" ContentType="image/jpeg"/>
  <Override PartName="/ppt/media/image29.gif" ContentType="image/gif"/>
  <Override PartName="/ppt/media/projctor.wav" ContentType="audio/x-wav"/>
  <Override PartName="/ppt/media/image24.jpeg" ContentType="image/jpeg"/>
  <Override PartName="/ppt/media/image14.jpeg" ContentType="image/jpeg"/>
  <Override PartName="/ppt/media/image1.gif" ContentType="image/gif"/>
  <Override PartName="/ppt/media/image31.gif" ContentType="image/gif"/>
  <Override PartName="/ppt/media/image25.gif" ContentType="image/gif"/>
  <Override PartName="/ppt/media/image6.jpeg" ContentType="image/jpeg"/>
  <Override PartName="/ppt/media/image27.wmf" ContentType="image/x-wmf"/>
  <Override PartName="/ppt/media/image28.jpeg" ContentType="image/jpeg"/>
  <Override PartName="/ppt/media/image35.gif" ContentType="image/gif"/>
  <Override PartName="/ppt/media/image32.gif" ContentType="image/gif"/>
  <Override PartName="/ppt/media/image42.jpeg" ContentType="image/jpeg"/>
  <Override PartName="/ppt/media/image11.gif" ContentType="image/gif"/>
  <Override PartName="/ppt/media/image37.gif" ContentType="image/gif"/>
  <Override PartName="/ppt/media/image34.gif" ContentType="image/gif"/>
  <Override PartName="/ppt/media/image9.gif" ContentType="image/gif"/>
  <Override PartName="/ppt/media/image33.gif" ContentType="image/gif"/>
  <Override PartName="/ppt/media/image18.jpeg" ContentType="image/jpeg"/>
  <Override PartName="/ppt/media/image19.wmf" ContentType="image/x-wmf"/>
  <Override PartName="/ppt/media/image39.jpeg" ContentType="image/jpeg"/>
  <Override PartName="/ppt/media/image45.gif" ContentType="image/gif"/>
  <Override PartName="/ppt/media/image10.gif" ContentType="image/gif"/>
  <Override PartName="/ppt/media/image41.png" ContentType="image/png"/>
  <Override PartName="/ppt/media/image43.gif" ContentType="image/gif"/>
  <Override PartName="/ppt/media/image44.png" ContentType="image/png"/>
  <Override PartName="/ppt/media/image40.jpeg" ContentType="image/jpeg"/>
  <Override PartName="/ppt/media/image13.jpeg" ContentType="image/jpeg"/>
  <Override PartName="/ppt/media/image30.png" ContentType="image/png"/>
  <Override PartName="/ppt/media/image3.jpeg" ContentType="image/jpeg"/>
  <Override PartName="/ppt/media/image7.png" ContentType="image/png"/>
  <Override PartName="/ppt/media/image22.jpeg" ContentType="image/jpeg"/>
  <Override PartName="/ppt/media/image8.gif" ContentType="image/gif"/>
  <Override PartName="/ppt/media/image38.gif" ContentType="image/gif"/>
  <Override PartName="/ppt/media/image4.jpeg" ContentType="image/jpeg"/>
  <Override PartName="/ppt/media/image2.png" ContentType="image/png"/>
  <Override PartName="/ppt/media/image5.png" ContentType="image/png"/>
  <Override PartName="/ppt/media/applause.wav" ContentType="audio/x-wav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B3F6-4987-4CAC-BE21-CA7D0DE9D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E433-9CB8-4E33-89EB-382FBE42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80E5-A8DA-4810-9E9B-6121CBDC8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9E5E-5829-4493-8643-F2DFD7563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07EB-35B3-47A5-B7A1-B0B4E886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95E1-02B4-4ED4-821A-7EC8E36A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AA2A-749D-45FA-9EC3-150CB0A4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EC0C-F29F-4919-9F39-E7B15001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75C6-D487-43A2-A2C4-74549333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F272-2A36-4ED3-8EA1-50970188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D0CA-A5DE-4FE1-A946-845AF9DC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AC4C-E2CC-4EE6-8547-A14A77A1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AE36-59D5-4866-B881-74E1B7BFC4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file:///usr/lib/libreoffice/share/gallery/sounds/applause.wav" TargetMode="External"/><Relationship Id="rId3" Type="http://schemas.microsoft.com/office/2007/relationships/media" Target="file:///usr/lib/libreoffice/share/gallery/sounds/applause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../Temporary%20Internet%20Files/Content.IE5/&#24180;&#32423;&#25945;&#21153;/&#34917;&#24046;&#23398;&#29983;&#21517;&#21333;(&#24635;&#34920;1&#65289;.xls" TargetMode="External"/><Relationship Id="rId2" Type="http://schemas.openxmlformats.org/officeDocument/2006/relationships/hyperlink" Target="file:///../Temporary%20Internet%20Files/Content.IE5/&#24180;&#32423;&#25945;&#21153;/&#23398;&#29983;&#34917;&#24046;&#35760;&#24405;&#21333;.xls" TargetMode="Externa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file:///C:/Documents%20and%20Settings/Administrator/My%20Documents/kejian/unit3huo.ppt" TargetMode="External"/><Relationship Id="rId3" Type="http://schemas.openxmlformats.org/officeDocument/2006/relationships/image" Target="../media/image42.jpeg"/><Relationship Id="rId4" Type="http://schemas.openxmlformats.org/officeDocument/2006/relationships/hyperlink" Target="file:///C:/Documents%20and%20Settings/Administrator/My%20Documents/kejian/unit3huo.ppt" TargetMode="External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3.gif"/><Relationship Id="rId3" Type="http://schemas.openxmlformats.org/officeDocument/2006/relationships/image" Target="../media/image44.png"/><Relationship Id="rId4" Type="http://schemas.openxmlformats.org/officeDocument/2006/relationships/image" Target="../media/image45.gif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260280"/>
            <a:ext cx="48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尊敬的各位家长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2205000"/>
            <a:ext cx="72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Arial"/>
              </a:rPr>
              <a:t>欢迎您的到来</a:t>
            </a:r>
            <a:r>
              <a:rPr b="1" lang="zh-CN" sz="8800" spc="-1" strike="noStrike">
                <a:solidFill>
                  <a:srgbClr val="0000ff"/>
                </a:solidFill>
                <a:latin typeface="Arial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path" presetID="6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animMotion origin="layout" path="M -0.05104 -0.01734 C -0.04931 0.00185 -0.04445 0.02937 -0.02622 0.02868 C 0.00034 0.02868 0.00225 -0.06244 0.03368 -0.06244 C 0.06198 -0.06244 0.04705 0.01712 0.07396 0.01665 C 0.10243 0.01665 0.08715 -0.04093 0.11771 -0.04093 C 0.14496 -0.04093 0.12968 -0.00208 0.15399 -0.00208 C 0.17743 -0.00208 0.16528 -0.03191 0.18646 -0.03191 C 0.19861 -0.03191 0.19948 -0.02382 0.20087 -0.01734 E">
                                      <p:cBhvr>
                                        <p:cTn id="6" dur="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38406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9640" y="54936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2005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学年关心集体积极分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484280"/>
            <a:ext cx="820764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冯翰熙 何俊钜 苏智纬 余孟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凌穗龙 王嘉颖 邓建茗 刘丽莹 麦洁仪 胡倩雯 陶雪莹 梁安琪 谢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340000" y="549360"/>
            <a:ext cx="49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2005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学年优秀团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484280"/>
            <a:ext cx="82076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梁昊晖刘永祥 李家梁 凌穗龙 邓建茗 麦洁仪 夏旻媚 陶雪莹 蔡锦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340000" y="549360"/>
            <a:ext cx="627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2005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学年优秀班干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1484280"/>
            <a:ext cx="820764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卫骁劲梁昊晖刘永祥 李家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凌穗龙 林锦源叶敏仪 刘丽莹 麦洁仪 胡倩雯 陶宁珊 陶雪莹 梁安琪  黄静雯 谢青 蔡锦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340000" y="549360"/>
            <a:ext cx="49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2005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学年三好学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1484280"/>
            <a:ext cx="820764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卫骁劲刘永祥 李家梁余景峰凌穗龙 黄旭峰陈昊韬林锦源傅文乐曾世乐王嘉颖邓建茗 叶敏仪 叶静文叶少敏 刘丽莹 吕丽珍 吴凤婷 陈颂恩 麦洁仪姜倩雯 胡倩雯 罗苑君 夏旻媚 陶宁珊 陶雪莹 梁文雅 梁安琪黄瑞云 黄静雯 谢青 蔡锦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914400" y="304920"/>
            <a:ext cx="6934320" cy="838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324480" y="1143000"/>
            <a:ext cx="2819520" cy="3276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5410080" y="3809880"/>
            <a:ext cx="3200400" cy="1752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1066680" y="3505320"/>
            <a:ext cx="3733920" cy="3352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050840" y="2133720"/>
            <a:ext cx="7178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ff00"/>
                </a:solidFill>
                <a:latin typeface="华文彩云"/>
                <a:ea typeface="华文彩云"/>
              </a:rPr>
              <a:t>  </a:t>
            </a:r>
            <a:r>
              <a:rPr b="1" lang="zh-CN" sz="8000" spc="-1" strike="noStrike">
                <a:solidFill>
                  <a:srgbClr val="00ff00"/>
                </a:solidFill>
                <a:latin typeface="华文彩云"/>
                <a:ea typeface="华文彩云"/>
              </a:rPr>
              <a:t>高三（</a:t>
            </a:r>
            <a:r>
              <a:rPr b="1" lang="zh-CN" sz="8000" spc="-1" strike="noStrike">
                <a:solidFill>
                  <a:srgbClr val="00ff00"/>
                </a:solidFill>
                <a:latin typeface="华文彩云"/>
                <a:ea typeface="华文彩云"/>
              </a:rPr>
              <a:t>15</a:t>
            </a:r>
            <a:r>
              <a:rPr b="1" lang="zh-CN" sz="8000" spc="-1" strike="noStrike">
                <a:solidFill>
                  <a:srgbClr val="00ff00"/>
                </a:solidFill>
                <a:latin typeface="华文彩云"/>
                <a:ea typeface="华文彩云"/>
              </a:rPr>
              <a:t>）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ff00"/>
                </a:solidFill>
                <a:latin typeface="华文彩云"/>
                <a:ea typeface="华文彩云"/>
              </a:rPr>
              <a:t>   </a:t>
            </a:r>
            <a:r>
              <a:rPr b="1" lang="zh-CN" sz="8000" spc="-1" strike="noStrike">
                <a:solidFill>
                  <a:srgbClr val="00ff00"/>
                </a:solidFill>
                <a:latin typeface="华文彩云"/>
                <a:ea typeface="华文彩云"/>
              </a:rPr>
              <a:t>一模分析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581280" y="26668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2743200"/>
            <a:ext cx="6096240" cy="144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Arial"/>
                <a:ea typeface="华文彩云"/>
              </a:rPr>
              <a:t>一、汇报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95480" y="60948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0"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2133720" y="2133720"/>
            <a:ext cx="5943600" cy="1371600"/>
          </a:xfrm>
          <a:prstGeom prst="rect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ff00"/>
                </a:solidFill>
                <a:latin typeface="Arial"/>
                <a:ea typeface="华文新魏"/>
              </a:rPr>
              <a:t>成绩状况介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0"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47520"/>
            <a:ext cx="10134720" cy="6810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990720" y="457200"/>
            <a:ext cx="8153280" cy="64008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333300"/>
                </a:solidFill>
                <a:latin typeface="Arial"/>
              </a:rPr>
              <a:t>我班在这次一模考试中，继校模之后又一次取得稳中略有上升的成绩，其中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英语、物理、历史</a:t>
            </a:r>
            <a:r>
              <a:rPr b="1" lang="zh-CN" sz="4400" spc="-1" strike="noStrike">
                <a:solidFill>
                  <a:srgbClr val="333300"/>
                </a:solidFill>
                <a:latin typeface="Arial"/>
              </a:rPr>
              <a:t>处于平行班级中上位置，尤其是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英语</a:t>
            </a:r>
            <a:r>
              <a:rPr b="1" lang="zh-CN" sz="4400" spc="-1" strike="noStrike">
                <a:solidFill>
                  <a:srgbClr val="333300"/>
                </a:solidFill>
                <a:latin typeface="Arial"/>
              </a:rPr>
              <a:t>学科取得了班均分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101.92</a:t>
            </a:r>
            <a:r>
              <a:rPr b="1" lang="zh-CN" sz="4400" spc="-1" strike="noStrike">
                <a:solidFill>
                  <a:srgbClr val="333300"/>
                </a:solidFill>
                <a:latin typeface="Arial"/>
              </a:rPr>
              <a:t>的好成绩，其余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语文、数学、综合、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科及总分</a:t>
            </a:r>
            <a:r>
              <a:rPr b="1" lang="zh-CN" sz="4400" spc="-1" strike="noStrike">
                <a:solidFill>
                  <a:srgbClr val="333300"/>
                </a:solidFill>
                <a:latin typeface="Arial"/>
              </a:rPr>
              <a:t>处于平行班级中上位置，各科发展不平衡，重点及本科上线率尚可以，但是未上线的人数偏多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11280" y="1890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高三下全市一模（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06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。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）各科上线预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04920" y="954000"/>
          <a:ext cx="8294400" cy="5904000"/>
        </p:xfrm>
        <a:graphic>
          <a:graphicData uri="http://schemas.openxmlformats.org/drawingml/2006/table">
            <a:tbl>
              <a:tblPr/>
              <a:tblGrid>
                <a:gridCol w="2742840"/>
                <a:gridCol w="1589040"/>
                <a:gridCol w="1752480"/>
                <a:gridCol w="2210040"/>
              </a:tblGrid>
              <a:tr h="531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专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语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数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英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综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物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化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政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历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地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生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11280" y="1890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高三下全市一模（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06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。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）各科上线预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04920" y="954000"/>
          <a:ext cx="8294400" cy="4667400"/>
        </p:xfrm>
        <a:graphic>
          <a:graphicData uri="http://schemas.openxmlformats.org/drawingml/2006/table">
            <a:tbl>
              <a:tblPr/>
              <a:tblGrid>
                <a:gridCol w="2743200"/>
                <a:gridCol w="1589040"/>
                <a:gridCol w="1752480"/>
                <a:gridCol w="2209680"/>
              </a:tblGrid>
              <a:tr h="155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科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点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科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专</a:t>
                      </a:r>
                      <a:r>
                        <a:rPr b="0" lang="zh-CN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线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全市总预测人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628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1885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686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五科综合分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61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53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9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2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知识改变命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态度决定一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刻苦完成学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奋斗成就人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562720" y="4460760"/>
            <a:ext cx="3276360" cy="2124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11280" y="1890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高三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下市一模各科上线预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04920" y="954000"/>
          <a:ext cx="8991360" cy="3775320"/>
        </p:xfrm>
        <a:graphic>
          <a:graphicData uri="http://schemas.openxmlformats.org/drawingml/2006/table">
            <a:tbl>
              <a:tblPr/>
              <a:tblGrid>
                <a:gridCol w="2743200"/>
                <a:gridCol w="1218960"/>
                <a:gridCol w="1524240"/>
                <a:gridCol w="1752480"/>
                <a:gridCol w="1752480"/>
              </a:tblGrid>
              <a:tr h="532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专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线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语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数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英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综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X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总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11280" y="1890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高三下第一模班级前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名名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50920" y="1006560"/>
          <a:ext cx="8785080" cy="6089400"/>
        </p:xfrm>
        <a:graphic>
          <a:graphicData uri="http://schemas.openxmlformats.org/drawingml/2006/table">
            <a:tbl>
              <a:tblPr/>
              <a:tblGrid>
                <a:gridCol w="1728720"/>
                <a:gridCol w="1512720"/>
                <a:gridCol w="1582920"/>
                <a:gridCol w="1584360"/>
                <a:gridCol w="2376360"/>
              </a:tblGrid>
              <a:tr h="530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姓    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总    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级名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模前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级名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黄嘉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姜倩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姜倩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黄嘉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李家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谢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陶雪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林锦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刘永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黄静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陶宁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陶宁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叶敏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刘永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黄静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陈颂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罗苑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唐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吴风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吴风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44280"/>
            <a:ext cx="83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Arial"/>
              </a:rPr>
              <a:t>一模与校模对照进步较快的学生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19120" y="817560"/>
          <a:ext cx="8229600" cy="63864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34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姓    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进步名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姓    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进步名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冯翰熙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王嘉颖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李家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叶敏仪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胡子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刘兴琪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凌穗龙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吕丽珍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高嘉豪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罗苑君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黄嘉豪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夏旻媚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44280"/>
            <a:ext cx="83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Arial"/>
              </a:rPr>
              <a:t>一模与校模对照进步较快的学生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19120" y="817560"/>
          <a:ext cx="8229600" cy="5851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36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姓    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进步名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姓    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进步名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陶雪莹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叶广芊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梁文雅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梁安琪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黄倩雯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蔡锦琪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5cf4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304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光荣榜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单科级前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50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名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990720"/>
            <a:ext cx="693396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语文——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蔡锦琪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数学——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陶宁珊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英语——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吕丽珍 黄嘉豪 胡倩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综合——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黄嘉豪  姜倩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总分——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黄嘉豪  姜倩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81280" y="14479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19810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971800" y="2819520"/>
            <a:ext cx="609480" cy="587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562720" y="380880"/>
            <a:ext cx="533160" cy="514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905120" y="307800"/>
            <a:ext cx="533160" cy="514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0" y="1066680"/>
            <a:ext cx="2743200" cy="5511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5cf4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304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光荣榜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(X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科级前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名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990720"/>
            <a:ext cx="6933960" cy="54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物理——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刘永祥 陈昊韬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化学——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姜倩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生物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陶雪莹 刘丽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历史——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黄嘉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政治、地理——  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14479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19810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971800" y="2819520"/>
            <a:ext cx="609480" cy="587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62720" y="380880"/>
            <a:ext cx="533160" cy="514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905120" y="307800"/>
            <a:ext cx="533160" cy="514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0" y="1066680"/>
            <a:ext cx="2743200" cy="5511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380520" y="4876560"/>
            <a:ext cx="6248520" cy="1523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Arial"/>
                <a:ea typeface="华文彩云"/>
              </a:rPr>
              <a:t>二、反思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0"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反思一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这次考试在个人名次上发生了一些明显的变化，原因为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们也有不少同学在考试前也投入了大量精力，但未收到如期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一模是冶炼，心态最重要。经历是最好的老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549360"/>
            <a:ext cx="43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0000"/>
                </a:solidFill>
                <a:latin typeface="Arial"/>
              </a:rPr>
              <a:t>反思二</a:t>
            </a:r>
            <a:r>
              <a:rPr b="0" lang="zh-CN" sz="4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CN" sz="4600" spc="-1" strike="noStrike">
                <a:solidFill>
                  <a:srgbClr val="ff0000"/>
                </a:solidFill>
                <a:latin typeface="Arial"/>
              </a:rPr>
              <a:t>一模显露出的问题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78483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这次考后，我们发现有些同学的总分高不了，究其原因，偏科太厉害！尤其要引起重视的是语文，英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因为这三科拉的分数最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但也不要忽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科及综合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由于各个方面的原因，很多同学都在这些科目中出现“瘸腿”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试卷答题过程中暴露出来的不规范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基础掌握不扎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8000" y="673200"/>
            <a:ext cx="8893080" cy="59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反思三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个别学生目前存在的问题</a:t>
            </a:r>
            <a:br>
              <a:rPr sz="4400"/>
            </a:b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学习目的不明确，甚至模糊。</a:t>
            </a:r>
            <a:br>
              <a:rPr sz="4400"/>
            </a:b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集体主义观念淡漠、自私。</a:t>
            </a:r>
            <a:br>
              <a:rPr sz="4400"/>
            </a:b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责任感较差，自我中心。</a:t>
            </a:r>
            <a:br>
              <a:rPr sz="4400"/>
            </a:b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4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学习方法需要调整，没有计划。</a:t>
            </a:r>
            <a:br>
              <a:rPr sz="4400"/>
            </a:b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5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心理素质，适应性需要加强。</a:t>
            </a:r>
            <a:br>
              <a:rPr sz="4400"/>
            </a:b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6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同学关系、师生关系需要改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66680" y="380880"/>
            <a:ext cx="75438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我们本次家长会的目的是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</a:t>
            </a:r>
            <a:r>
              <a:rPr b="0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促进交流与合作，达成教育共识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62720" y="4460760"/>
            <a:ext cx="3276360" cy="2124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-114300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5943600" cy="1524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Arial"/>
                <a:ea typeface="华文彩云"/>
              </a:rPr>
              <a:t>三、展望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0">
    <p:dissolv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一模之后我们老师要做的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2682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落实学生的成绩情况之后，寻找该生的薄弱科目，确定补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薄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学生名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过班主任与各科任老师的联系，对补薄学生给予更多的关注，并通过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学生补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记录单，时时跟踪，使学生在薄弱科上有所进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95280" y="2492280"/>
            <a:ext cx="79819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强思想教育工作，增强学生的自信心和成才欲望，充分利用课堂及班会时间给同学们加油鼓劲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18216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3300"/>
              </a:solidFill>
              <a:latin typeface="Arial"/>
              <a:ea typeface="华文行楷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990720"/>
            <a:ext cx="816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与各科任老师的联系，对学生给予更多的关注，使学生在薄弱科上有所进步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4495680"/>
            <a:ext cx="800100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严格常规管理，严格请假制度，严格班规班纪，稳定学习秩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4000" y="4653000"/>
            <a:ext cx="882000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师们全力以赴，精心备课。和学生同甘共苦，关爱每一个学生，用真情激励学生奋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378936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强自习课余时间的整体辅导和个别辅导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29242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增强学生时间观念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1640" y="1828800"/>
            <a:ext cx="93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向偏科现象较严重的同学介绍好的学习经验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5335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谈话帮助学生分析成绩，找出原因，帮助学生确定目标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1835280" y="1341360"/>
            <a:ext cx="609588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333399"/>
                </a:solidFill>
                <a:latin typeface="汉仪圆叠体简"/>
              </a:rPr>
              <a:t>家长如何看待孩子</a:t>
            </a:r>
            <a:endParaRPr b="0" lang="en-US" sz="4800" spc="1" strike="noStrike">
              <a:ln w="9360">
                <a:solidFill>
                  <a:srgbClr val="cc0000"/>
                </a:solidFill>
                <a:miter/>
              </a:ln>
              <a:solidFill>
                <a:srgbClr val="333399"/>
              </a:solidFill>
              <a:latin typeface="汉仪圆叠体简"/>
              <a:ea typeface="汉仪圆叠体简"/>
            </a:endParaRPr>
          </a:p>
        </p:txBody>
      </p:sp>
    </p:spTree>
  </p:cSld>
  <p:transition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1979640" y="0"/>
            <a:ext cx="5181480" cy="3432240"/>
            <a:chOff x="1979640" y="0"/>
            <a:chExt cx="5181480" cy="343224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2627280" y="0"/>
              <a:ext cx="40323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 txBox="1"/>
            <p:nvPr/>
          </p:nvSpPr>
          <p:spPr>
            <a:xfrm>
              <a:off x="1979640" y="2060640"/>
              <a:ext cx="5181480" cy="137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Triangle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cc"/>
                      </a:gs>
                      <a:gs pos="100000">
                        <a:srgbClr val="ff9999"/>
                      </a:gs>
                    </a:gsLst>
                    <a:lin ang="5400000"/>
                  </a:gradFill>
                  <a:latin typeface="宋体"/>
                </a:rPr>
                <a:t>如何看待成绩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</p:grpSp>
      <p:sp>
        <p:nvSpPr>
          <p:cNvPr id="142" name=""/>
          <p:cNvSpPr txBox="1"/>
          <p:nvPr/>
        </p:nvSpPr>
        <p:spPr>
          <a:xfrm>
            <a:off x="0" y="3429000"/>
            <a:ext cx="5105520" cy="19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5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肯定子女的每一滴收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492360" y="4581360"/>
            <a:ext cx="5410440" cy="17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1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鼓励子女的每一点进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90720" y="685800"/>
            <a:ext cx="690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家长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适当的期望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16000" y="2922480"/>
            <a:ext cx="73152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孩子是家长的希望，教育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孩子是老师的希望。父母对孩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期望值的高低直接影响孩子将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所取得成就的大小。应该有一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期望值，尽量要恰到好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908000" y="1557360"/>
            <a:ext cx="504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幼圆"/>
              </a:rPr>
              <a:t>给孩子一个能达到的目标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幼圆"/>
              <a:ea typeface="幼圆"/>
            </a:endParaRPr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11280" y="189000"/>
            <a:ext cx="7618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*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期望值过高：孩子拼命按家长的意愿生活、学习，也许父母感到满足，但孩子生活得较为压抑，甚至影响心理健康。尽力后仍达不到家长的要求，双方均失望，可能导致孩子自暴自弃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971800"/>
            <a:ext cx="7543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* 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期望值过低或没有：尚不自觉的孩子缺少外在精神支持，认为不重视、无所谓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472428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5050"/>
                </a:solidFill>
                <a:latin typeface="Times New Roman"/>
              </a:rPr>
              <a:t>*     </a:t>
            </a:r>
            <a:r>
              <a:rPr b="1" lang="zh-CN" sz="3400" spc="-1" strike="noStrike">
                <a:solidFill>
                  <a:srgbClr val="ff5050"/>
                </a:solidFill>
                <a:latin typeface="Times New Roman"/>
              </a:rPr>
              <a:t>适当的期望值：在原有基础上适当拔高，不操之过急，不高不可攀，否则可能大家都失望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6320" y="45720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Tahoma"/>
              </a:rPr>
              <a:t>高考倒计时</a:t>
            </a:r>
            <a:r>
              <a:rPr b="1" lang="zh-CN" sz="4000" spc="-1" strike="noStrike">
                <a:solidFill>
                  <a:srgbClr val="009999"/>
                </a:solidFill>
                <a:latin typeface="Tahoma"/>
              </a:rPr>
              <a:t>60</a:t>
            </a:r>
            <a:r>
              <a:rPr b="1" lang="zh-CN" sz="4000" spc="-1" strike="noStrike">
                <a:solidFill>
                  <a:srgbClr val="009999"/>
                </a:solidFill>
                <a:latin typeface="Tahoma"/>
              </a:rPr>
              <a:t>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838080"/>
            <a:ext cx="83808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533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了解高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1295280"/>
            <a:ext cx="84582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cc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高考实行“三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+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综合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+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选修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三：语文、数学、外语</a:t>
            </a:r>
            <a:r>
              <a:rPr b="1" lang="zh-CN" sz="1800" spc="-1" strike="noStrike">
                <a:solidFill>
                  <a:srgbClr val="99cc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 （各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150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分），共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450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综合：物理、化学、生物</a:t>
            </a:r>
            <a:r>
              <a:rPr b="1" lang="zh-CN" sz="1800" spc="-1" strike="noStrike">
                <a:solidFill>
                  <a:srgbClr val="99cc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历史</a:t>
            </a:r>
            <a:r>
              <a:rPr b="1" lang="zh-CN" sz="1800" spc="-1" strike="noStrike">
                <a:solidFill>
                  <a:srgbClr val="99cc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 地理</a:t>
            </a:r>
            <a:r>
              <a:rPr b="1" lang="zh-CN" sz="1800" spc="-1" strike="noStrike">
                <a:solidFill>
                  <a:srgbClr val="99cc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 政治计入高考成绩，共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150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第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9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周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2006.3.12 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体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5. 2006.3.24-26 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二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6. 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第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13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周填志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高考在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2006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年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月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8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9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日举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85760" y="838080"/>
            <a:ext cx="3733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12193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7621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了解孩子一天的每段时间应该在做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2209680"/>
            <a:ext cx="74678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Tahoma"/>
              </a:rPr>
              <a:t>关键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30        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英语朗读听力时间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\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语文早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00 -2:00       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提倡回班级看书休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21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00      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下晚自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周日             休息 </a:t>
            </a: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905120" y="2666880"/>
            <a:ext cx="5303880" cy="1494000"/>
            <a:chOff x="1905120" y="2666880"/>
            <a:chExt cx="5303880" cy="1494000"/>
          </a:xfrm>
        </p:grpSpPr>
        <p:sp>
          <p:nvSpPr>
            <p:cNvPr id="159" name=""/>
            <p:cNvSpPr/>
            <p:nvPr/>
          </p:nvSpPr>
          <p:spPr>
            <a:xfrm>
              <a:off x="1905120" y="266688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1905120" y="2666880"/>
              <a:ext cx="1231920" cy="1494000"/>
              <a:chOff x="1905120" y="2666880"/>
              <a:chExt cx="1231920" cy="1494000"/>
            </a:xfrm>
          </p:grpSpPr>
          <p:sp>
            <p:nvSpPr>
              <p:cNvPr id="161" name=""/>
              <p:cNvSpPr/>
              <p:nvPr/>
            </p:nvSpPr>
            <p:spPr>
              <a:xfrm>
                <a:off x="1905120" y="266688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1905120" y="2666880"/>
                <a:ext cx="1231920" cy="1494000"/>
                <a:chOff x="1905120" y="2666880"/>
                <a:chExt cx="1231920" cy="1494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1905120" y="266688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4" name=""/>
                <p:cNvGrpSpPr/>
                <p:nvPr/>
              </p:nvGrpSpPr>
              <p:grpSpPr>
                <a:xfrm>
                  <a:off x="1905120" y="2666880"/>
                  <a:ext cx="1231920" cy="1494000"/>
                  <a:chOff x="1905120" y="2666880"/>
                  <a:chExt cx="1231920" cy="149400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>
                    <a:off x="1905120" y="266688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1905120" y="266688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934320" y="464832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43280" y="1700280"/>
            <a:ext cx="5184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家长积极配合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老师倾情教育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学生努力进步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33360"/>
            <a:ext cx="2987640" cy="2548080"/>
          </a:xfrm>
          <a:prstGeom prst="cloudCallout">
            <a:avLst>
              <a:gd name="adj1" fmla="val 29810"/>
              <a:gd name="adj2" fmla="val 7704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我们的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愿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33520" y="2095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609480"/>
            <a:ext cx="914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05520" y="228600"/>
            <a:ext cx="35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了解孩子可能存在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问题以及应对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1447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自习课说话、看小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33920" y="1447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提醒</a:t>
            </a: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: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晚间在自己的房间在看什么书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6560" y="215892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上课、自习课睡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59120" y="2158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晚间不要太晚  不要疲劳战要效率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2895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补课现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33920" y="28195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是否必要   如必要  勤和补课老师沟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3733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心理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358128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控制自己情绪 ，多观察、  多交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注意交流的内容、方式、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4724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租房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4800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提醒：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每天晚自习以后，孩子在哪里，在做什么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5867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早恋现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62520" y="5867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ahoma"/>
              </a:rPr>
              <a:t>您发现什么异样了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600200" y="4572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9999"/>
                </a:solidFill>
                <a:uFillTx/>
                <a:latin typeface="Tahoma"/>
              </a:rPr>
              <a:t>对您的几点参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40384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4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积极配合老师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00200" y="31240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作好后勤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23880" y="22096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掩藏负面情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129528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以孩子为中心  不要过分唠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3124080"/>
            <a:ext cx="4114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饮食要有奶类、豆类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蔬菜、水果、谷类、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629400" y="4589640"/>
            <a:ext cx="2514600" cy="2268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990720" y="601992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93880" y="5943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让孩子感觉这是一个温暖的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96840" y="4876920"/>
            <a:ext cx="16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5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广开渠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124000" y="50781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孩子的健康成长，有赖您精心的呵护、正确的教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91440" y="260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寄语家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87280" y="1125720"/>
            <a:ext cx="7561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生的成功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40%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学生的自身努力）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30%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教师的力量）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30%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家长的推动力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30200" y="1676520"/>
            <a:ext cx="8713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思想上，家长能够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多与子女沟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及时了解和掌握自己子女的心理动向，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给其学习施加一定的压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对子女的教育方式方法，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多鼓励少批评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子女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要有一定的期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但不能过高或过低，注意观察学生变化，及时发现并纠正其不良行为而切忌护短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要教育孩子怎样做人，关心孩子的思想动态使孩子有正确的思想导向、明确的奋斗目标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。工作再忙也要抽点时间来多了解孩子在校的表现和学习成绩情况。因为孩子只有一个呀，我们的一切工作难道不是为了孩子将来的美好前途吗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学会欣赏孩子，要善于发现他们的闪光点，及时给予鼓励，以增强他们的自信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27160" y="38088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黑体"/>
              </a:rPr>
              <a:t>希望家长配合的工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22860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生活上，家长能够合理安排饮食，注意补充营养关心照顾，身体是革命的本钱 。提醒孩子注意安全（交通安全、运动安全、饮食安全等），保证学生按时作息，不要因晚上学习时间过长或看电视无度、睡眠不足影响第二天学习；有特殊情况要请假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控制零花钱，引导孩子合理消费；抓好子女在家的行为习惯。如良好的休息、科学的安排学习、适量的家务劳动（劳动是教育人的较好方式，只有劳动，他才懂得来之不易，懂得珍惜）等。在孩子面前做好表率，身教重于言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74560" y="304920"/>
            <a:ext cx="85694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学习上，家长能够教育孩子在上课时专心听老师讲课，不懂就是不懂，要虚心请教。强调“认真”二字。少做最好不做与学习无关的事。多让他们在学习、精神等各方面得到父母的支持和鼓励，给孩子创造良好的学习环境（物质、文化、精神环境）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以成绩论英雄，您的子女学习成绩好，并不意味着思想好、能力高，您的子女学习成绩落后，并不意味着思想差、能力低。现在的社会需要各种各样的人才。只要有能力，任何一个学生都能在社会上立足，并且成就一番事业。科学的分析子女的成绩档案。不与其他同学作比较，而是着眼于自身的比较。比较前后几次考试，看是否退步，原因是什么。比较各科之间的成绩，看哪科是弱项，多花些时间补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6094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教育方式上，要尊重学生人格，用科学方法教育、引导，切忌因简单、粗暴的武力压服而影响其身心健康，导致教育失败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2286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家长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多和老师联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支持班级工作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掌握子女在学校的学习情况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帮助学生树立人生或高考目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41148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总之，希望家长能以负责的态度，正确的方法，与教师共同塑造学生健康的心态，培养其良好行为习惯，激发其勇于创新、不懈努力的积极性的目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600" y="1981080"/>
            <a:ext cx="8610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宋体"/>
                <a:ea typeface="黑体"/>
              </a:rPr>
              <a:t>我们重视学生的成长，而不仅仅是成功；我们重视学生的人格，而不仅仅是成绩；我们重视学生的创新，而不仅仅是接受；我们重视学生的终身，而不仅仅是现在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4952880"/>
            <a:ext cx="380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65240" y="4083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0880" y="38088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共勉：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p:transition>
    <p:random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533520"/>
            <a:ext cx="769608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成功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=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智商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+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情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(20%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(80%</a:t>
            </a:r>
            <a:r>
              <a:rPr b="0" lang="zh-CN" sz="48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886200" y="3297240"/>
            <a:ext cx="5257800" cy="3560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28600" y="0"/>
            <a:ext cx="85345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指責中長大的孩子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怨天尤人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敵意中長大的孩子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好斗逞勇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恐懼中長大的孩子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畏首畏尾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憐憫中長大的孩子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自怨自艾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嘲諷中長大的孩子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消極退縮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嫉妒中長大的孩子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勾心斗角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羞辱中長大的孩子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心懷內疚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容忍中長大的孩子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極富耐性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鼓勵中長大的孩子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充滿自信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讚美中長大的孩子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心存感恩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嘉許中長大的孩子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愛人愛己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接納中長大的孩子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心胸寬大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認同中長大的孩子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掌握目標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分享中長大的孩子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慷慨大方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誠實公平中長大的孩子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必能維護正義真理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安定中長大的孩子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信任自己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信任他人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友善中長大的孩子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對世界多一份關懷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祥和中長大的孩子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有和平的心境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6858000" y="18288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8080" y="83808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隶书"/>
              </a:rPr>
              <a:t>老师的教学理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1905120"/>
            <a:ext cx="5257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关注班上每一个学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没有最好，只有更好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班级没有后进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不以一时成败论英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希望每个人都有好前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2120" y="2133720"/>
            <a:ext cx="380880" cy="3581280"/>
            <a:chOff x="762120" y="2133720"/>
            <a:chExt cx="380880" cy="3581280"/>
          </a:xfrm>
        </p:grpSpPr>
        <p:sp>
          <p:nvSpPr>
            <p:cNvPr id="53" name=""/>
            <p:cNvSpPr/>
            <p:nvPr/>
          </p:nvSpPr>
          <p:spPr>
            <a:xfrm>
              <a:off x="762120" y="2971800"/>
              <a:ext cx="380880" cy="30492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2120" y="2133720"/>
              <a:ext cx="380880" cy="30456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560"/>
                <a:gd name="textAreaBottom" fmla="*/ 191160 h 3045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62120" y="3733920"/>
              <a:ext cx="380880" cy="30456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560"/>
                <a:gd name="textAreaBottom" fmla="*/ 191160 h 3045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62120" y="4572000"/>
              <a:ext cx="380880" cy="30492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2120" y="5410080"/>
              <a:ext cx="380880" cy="30492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1143000"/>
            <a:ext cx="830592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</a:t>
            </a:r>
            <a:r>
              <a:rPr b="1" i="1" lang="zh-CN" sz="40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孩子们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爸爸、妈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你们辛苦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我们平时忙于学习，因此和你们交流得机会很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但是作为你的儿女，我们深知你们很辛苦，也很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我们回报您的唯一办法就是好好学习，不虚度光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争取考取理想大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爸爸妈妈你们千万要注意身体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儿女在这里真诚地道一声：谢谢你们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638680" y="685800"/>
            <a:ext cx="2251080" cy="228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81080" y="246204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刻苦努力，不断拼搏，是我们奋进的号角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坚忍顽强，超越自我，是我们追求的品格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克服困难，励志向前，是我们不改的信念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乌鸦反哺，回报父母，是我们不变的誓言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健康成长，创造辉煌，是我们共同的心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 rot="513000">
            <a:off x="541080" y="371520"/>
            <a:ext cx="6557760" cy="187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说给爸爸妈妈的话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8" dur="1" fill="hold"/>
                                  <p:tgtEl>
                                    <p:spTgt spid="21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217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219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2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zh-CN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zh-CN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4286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85800" y="50292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8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8080"/>
                </a:solidFill>
                <a:latin typeface="Tahoma"/>
                <a:ea typeface="华文行楷"/>
              </a:rPr>
              <a:t>雪莱说“冬天到了，春天还会远吗？”春天是万物复苏的季节，我们仍在快乐的播种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6934320" cy="42670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990720" y="481644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339933"/>
                </a:solidFill>
                <a:latin typeface="Tahoma"/>
                <a:ea typeface="华文行楷"/>
              </a:rPr>
              <a:t>迎接高考一路坎坷，我们已感受到夏雨的清凉。当今年的六月来临，我相信我们已经做好了准备。这应该是一条通向成功的道路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230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232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zh-CN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zh-CN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391520" cy="44467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762120" y="51055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  <a:ea typeface="华文行楷"/>
              </a:rPr>
              <a:t>秋天是收获的季节，我们却在播种。道路可能很艰苦，但我们是朝着太阳的方向前进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241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243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6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zh-CN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zh-CN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49" name=""/>
          <p:cNvSpPr/>
          <p:nvPr/>
        </p:nvSpPr>
        <p:spPr>
          <a:xfrm>
            <a:off x="1066680" y="51055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行楷"/>
              </a:rPr>
              <a:t>雪花儿飘起来了，我们舍弃了小屋的舒适，沿着这条路仍在艰难地跋涉…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行楷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251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253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6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zh-CN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zh-CN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086600" cy="4486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261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263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zh-CN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zh-CN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6858000" cy="44355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838080" y="50292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339933"/>
                </a:solidFill>
                <a:latin typeface="Tahoma"/>
                <a:ea typeface="华文行楷"/>
              </a:rPr>
              <a:t>走过春夏秋冬，走过风风雨雨……当我们如雄鹰展翅，所有的辛苦，所有的泪水，都会在一笑中淡然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家长代表经验交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3681360"/>
            <a:ext cx="3745080" cy="3176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28600" y="1981080"/>
            <a:ext cx="8610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宋体"/>
                <a:ea typeface="黑体"/>
              </a:rPr>
              <a:t>我们重视学生的成长，而不仅仅是成功；我们重视学生的人格，而不仅仅是成绩；我们重视学生的创新，而不仅仅是接受；我们重视学生的终身，而不仅仅是现在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19720" y="4952880"/>
            <a:ext cx="380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965240" y="4083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38088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共勉：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p:transition>
    <p:random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835280" y="765000"/>
            <a:ext cx="66294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培养有理想抱负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培养良好的道德品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培养良好的心理素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培养良好的学习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严格要求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自主管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让每一位学生都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健康成功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 rot="5400000">
            <a:off x="-1477440" y="2553480"/>
            <a:ext cx="4795920" cy="1523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华文新魏"/>
              </a:rPr>
              <a:t>班级管理理念</a:t>
            </a:r>
            <a:endParaRPr b="1" lang="en-US" sz="5400" spc="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4067280" y="1125360"/>
            <a:ext cx="41148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欢 迎 监 督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547640" y="0"/>
            <a:ext cx="41911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感 谢 指 导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81" name=""/>
          <p:cNvSpPr/>
          <p:nvPr/>
        </p:nvSpPr>
        <p:spPr>
          <a:xfrm>
            <a:off x="6659640" y="6237360"/>
            <a:ext cx="1368360" cy="620640"/>
          </a:xfrm>
          <a:custGeom>
            <a:avLst/>
            <a:gdLst>
              <a:gd name="textAreaLeft" fmla="*/ 39960 w 1368360"/>
              <a:gd name="textAreaRight" fmla="*/ 1328400 w 1368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7608" h="21600">
                <a:moveTo>
                  <a:pt x="0" y="0"/>
                </a:moveTo>
                <a:lnTo>
                  <a:pt x="47608" y="0"/>
                </a:lnTo>
                <a:lnTo>
                  <a:pt x="47608" y="21600"/>
                </a:lnTo>
                <a:lnTo>
                  <a:pt x="0" y="21600"/>
                </a:lnTo>
                <a:close/>
              </a:path>
              <a:path fill="lightenLess" w="47608" h="21600">
                <a:moveTo>
                  <a:pt x="0" y="0"/>
                </a:moveTo>
                <a:lnTo>
                  <a:pt x="47608" y="0"/>
                </a:lnTo>
                <a:lnTo>
                  <a:pt x="46208" y="1400"/>
                </a:lnTo>
                <a:lnTo>
                  <a:pt x="1400" y="1400"/>
                </a:lnTo>
                <a:close/>
              </a:path>
              <a:path fill="darken" w="47608" h="21600">
                <a:moveTo>
                  <a:pt x="47608" y="0"/>
                </a:moveTo>
                <a:lnTo>
                  <a:pt x="47608" y="21600"/>
                </a:lnTo>
                <a:lnTo>
                  <a:pt x="46208" y="20200"/>
                </a:lnTo>
                <a:lnTo>
                  <a:pt x="46208" y="1400"/>
                </a:lnTo>
                <a:close/>
              </a:path>
              <a:path fill="darkenLess" w="47608" h="21600">
                <a:moveTo>
                  <a:pt x="47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208" y="20200"/>
                </a:lnTo>
                <a:close/>
              </a:path>
              <a:path fill="lighten" w="47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朋友再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09480" y="3200400"/>
            <a:ext cx="7994880" cy="16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祝各位家长：家庭幸福，事业顺利！</a:t>
            </a:r>
            <a:endParaRPr b="0" lang="en-US" sz="4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845820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6248520" y="6400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595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8" dur="1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3" dur="1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91440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成長只有一次</a:t>
            </a: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陪孩子成長</a:t>
            </a: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让我们共同托起明天的太阳！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43400" y="3247920"/>
            <a:ext cx="4290840" cy="3386160"/>
          </a:xfrm>
          <a:prstGeom prst="rect">
            <a:avLst/>
          </a:prstGeom>
          <a:ln w="0">
            <a:noFill/>
          </a:ln>
        </p:spPr>
      </p:pic>
      <p:sp>
        <p:nvSpPr>
          <p:cNvPr id="287" name="">
            <a:hlinkClick r:id="rId4"/>
          </p:cNvPr>
          <p:cNvSpPr/>
          <p:nvPr/>
        </p:nvSpPr>
        <p:spPr>
          <a:xfrm>
            <a:off x="838080" y="6095880"/>
            <a:ext cx="304920" cy="281160"/>
          </a:xfrm>
          <a:custGeom>
            <a:avLst/>
            <a:gdLst>
              <a:gd name="textAreaLeft" fmla="*/ 70200 w 304920"/>
              <a:gd name="textAreaRight" fmla="*/ 234720 w 304920"/>
              <a:gd name="textAreaTop" fmla="*/ 70200 h 281160"/>
              <a:gd name="textAreaBottom" fmla="*/ 210960 h 281160"/>
            </a:gdLst>
            <a:ahLst/>
            <a:rect l="textAreaLeft" t="textAreaTop" r="textAreaRight" b="textAreaBottom"/>
            <a:pathLst>
              <a:path w="23423" h="21600">
                <a:moveTo>
                  <a:pt x="0" y="0"/>
                </a:moveTo>
                <a:lnTo>
                  <a:pt x="23423" y="0"/>
                </a:lnTo>
                <a:lnTo>
                  <a:pt x="23423" y="21600"/>
                </a:lnTo>
                <a:lnTo>
                  <a:pt x="0" y="21600"/>
                </a:lnTo>
                <a:close/>
              </a:path>
              <a:path fill="lightenLess" w="23423" h="21600">
                <a:moveTo>
                  <a:pt x="0" y="0"/>
                </a:moveTo>
                <a:lnTo>
                  <a:pt x="23423" y="0"/>
                </a:lnTo>
                <a:lnTo>
                  <a:pt x="18023" y="5400"/>
                </a:lnTo>
                <a:lnTo>
                  <a:pt x="5400" y="5400"/>
                </a:lnTo>
                <a:close/>
              </a:path>
              <a:path fill="darken" w="23423" h="21600">
                <a:moveTo>
                  <a:pt x="23423" y="0"/>
                </a:moveTo>
                <a:lnTo>
                  <a:pt x="23423" y="21600"/>
                </a:lnTo>
                <a:lnTo>
                  <a:pt x="18023" y="16200"/>
                </a:lnTo>
                <a:lnTo>
                  <a:pt x="18023" y="5400"/>
                </a:lnTo>
                <a:close/>
              </a:path>
              <a:path fill="darkenLess" w="23423" h="21600">
                <a:moveTo>
                  <a:pt x="23423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8023" y="16200"/>
                </a:lnTo>
                <a:close/>
              </a:path>
              <a:path fill="lighten" w="23423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1600200" y="3124080"/>
            <a:ext cx="6858000" cy="1524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隶书"/>
              </a:rPr>
              <a:t>家长会到此结束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隶书"/>
              </a:rPr>
              <a:t>祝各位家长健康愉快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隶书"/>
              <a:ea typeface="隶书"/>
            </a:endParaRPr>
          </a:p>
        </p:txBody>
      </p:sp>
      <p:sp>
        <p:nvSpPr>
          <p:cNvPr id="289" name=""/>
          <p:cNvSpPr/>
          <p:nvPr/>
        </p:nvSpPr>
        <p:spPr>
          <a:xfrm>
            <a:off x="3653280" y="4267080"/>
            <a:ext cx="296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rebuchet MS"/>
              </a:rPr>
              <a:t>Bye-bye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-609480" y="5181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304920" y="4952880"/>
            <a:ext cx="1828800" cy="15242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635200" cy="29718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6934320" y="380880"/>
            <a:ext cx="1904760" cy="158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6" dur="1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03280" y="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2005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学年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全勤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907920"/>
            <a:ext cx="8281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卫骁劲 冯翰熙 刘永祥 余景峰 李家梁 苏智纬 陈昊韬 凌穗龙 郭永龙 黄旭峰 傅文乐 曾世乐 邓建茗 叶敏仪 叶静文 刘丽莹 吕丽珍 吴凤婷 陈颂恩 麦洁仪姜倩雯 胡倩雯 黄倩雯 夏旻媚 陶宁珊 陶雪莹 梁文雅 梁安琪黄瑞云黄静雯 谢青 蔡锦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340000" y="54936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学习态度特别好的同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484280"/>
            <a:ext cx="8207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484280"/>
            <a:ext cx="9325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刘永祥 李家梁 凌穗龙  叶敏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叶静文吴凤婷 陈颂恩 麦洁仪姜倩雯 黄倩雯 夏旻媚 陶宁珊 梁安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黄瑞云 谢青 蔡锦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40000" y="549360"/>
            <a:ext cx="64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2005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学年文明礼貌标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484280"/>
            <a:ext cx="820764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卫骁劲 冯翰熙 何俊钜梁昊晖 刘永祥 李家梁 凌穗龙 黄旭峰 林锦源邓建茗 叶敏仪 叶静文 陈颂恩 麦洁仪 姜倩雯 胡倩雯 陶雪莹 梁安琪 黄瑞云 谢青  蔡锦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0:43:50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10:32Z</dcterms:modified>
  <cp:revision>126</cp:revision>
  <dc:subject>主题班会课件(分28大类): http://shop62905894.taobao.com</dc:subject>
  <dc:title>主题班会课件(分28大类): http://shop62905894.taobao.com</dc:title>
</cp:coreProperties>
</file>